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01866F-C576-4445-A4FB-BC2603AE0FA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813C38-C2E7-49E4-BE75-7E4C13272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510F29-7B84-4F0F-A36F-7FE15444C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0832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1964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29700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0832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1964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E99A40-EDBD-4A6A-ABAF-BCFE88B18DF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25520" y="1182600"/>
            <a:ext cx="807696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F2F04F-9F68-4CEF-9579-5F557D6C0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0832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11964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29700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0832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11964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18817-BC4F-4D37-8393-9B01F232BE7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EEFF3-F734-44EA-B2F4-FB60EF009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328CB-582A-4FC8-8A36-56FCA883E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D5025-9DC3-4516-BC1C-C06556573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ADCF0-8046-407A-8066-CE4F3428A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6DE8FC-9C03-4B8B-AB2D-B971B5603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25520" y="1182600"/>
            <a:ext cx="807696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305C9-3A7E-4C65-956F-DD5E9489A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75BCC-B508-4393-9797-33222495F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21ACB-CD9C-486D-BC15-88A283DCC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EC9D5-4ECD-4F5C-B2A0-DF050E4A0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C732B-EED8-48CF-A88D-ACD0828AE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81C1F-98C1-4A7B-8A30-B1B8E9BCC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0832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11964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29700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0832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11964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AE94E-7741-4A33-B1D2-55443B3CB4C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BC2E2EE-A7CB-44AC-A5AB-E2148F5EA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356CAE2-49F1-418D-A3D8-1F4E997F7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770D093-E995-489E-AFFA-69DB77AF1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EA2271-8AB1-4FA2-8318-CD3E20997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46A2B80-39FF-4C48-A965-F7272B8AD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D9C2459-1B3D-434F-8CE0-FE01577EF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25520" y="1182600"/>
            <a:ext cx="807696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59BD894-6D32-4F27-ACB0-F82235F66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F82FFC3-ED61-41E9-B92C-01EFAB664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D56D907-FFEE-4D19-8BBF-D30DAA854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3AB2D44-EF66-4D59-A795-1C22957F2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D4A6B34-DD2D-4252-A608-F4364C184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EA218A5-05D0-40D8-B652-5AC8DF898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0832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11964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29700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0832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11964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0DE46D7-BCB6-42D9-9878-635CEF9AD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B9C0596-8D84-456C-9142-CCA380998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36A26C-427A-4D8C-8B0F-239972C66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13182CE-5EB4-45E3-8798-09F9E5C24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18973BD-9BAF-439A-8144-D83DBD9D1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5F4DA54-07B9-4D51-A86F-3670B6415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B366E2D-CA9B-4E37-BB58-3252E180A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425520" y="1182600"/>
            <a:ext cx="807696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E6E82F1-E2F6-4128-A9F8-6BB8AA93F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99BB3EA-72ED-4477-84B6-F739A0834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67352E1-AD53-49FA-9509-C220A3DD4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312218E-1A65-4607-93C4-016625B8D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C41F091-D1E7-4F79-B36D-D20F67D37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2EC85DD-1CB3-452D-8FC5-EAE0BB7D3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25520" y="1182600"/>
            <a:ext cx="807696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2ECFC6-B6D1-413A-95D2-0E63B12FA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20832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1964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9700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20832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1964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DA350DE-EFC2-4DB0-B835-511206CBE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350B9C-272D-4BD7-BADF-60D3A8442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B20CC5-626F-4BAC-8F40-8009EB669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08F39D-C3F7-433A-A0D1-261DC3ED5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Click to edit the outline text format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con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Thir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3" marL="16002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our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4" marL="20574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if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ix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ven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6A689-5DCB-4DF5-A37C-2E61646941A4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425520" y="118260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42840" y="0"/>
            <a:ext cx="9144000" cy="2089080"/>
            <a:chOff x="4284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71280" y="0"/>
              <a:ext cx="9115560" cy="1790640"/>
              <a:chOff x="7128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7128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7128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4284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8160" y="2491920"/>
            <a:ext cx="8077320" cy="224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07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08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DD2ED-B76E-4CAE-AD63-12DF9A8C1EE1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0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1" name="Picture 10" descr=""/>
          <p:cNvPicPr/>
          <p:nvPr/>
        </p:nvPicPr>
        <p:blipFill>
          <a:blip r:embed="rId4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body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Click to edit the outline text format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con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Thir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3" marL="16002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our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4" marL="20574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if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ix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ven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425520" y="118260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sldNum" idx="3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EA9F1-C0B8-48FC-8370-ECA086B801F0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dt" idx="4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6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body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Click to edit the outline text format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con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Thir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3" marL="16002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our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4" marL="20574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if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ix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ven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title"/>
          </p:nvPr>
        </p:nvSpPr>
        <p:spPr>
          <a:xfrm>
            <a:off x="425520" y="118260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dt" idx="5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sldNum" idx="7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3E0F7-3B90-4296-A9C6-A4360141FE0D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99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02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body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Click to edit the outline text format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con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Thir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3" marL="16002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our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4" marL="20574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if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ix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ven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title"/>
          </p:nvPr>
        </p:nvSpPr>
        <p:spPr>
          <a:xfrm>
            <a:off x="425520" y="118260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dt" idx="8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 type="ftr" idx="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 type="sldNum" idx="10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BA131-F761-47D0-BB91-4A7D6B067954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4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4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4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4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2"/>
          <p:cNvSpPr/>
          <p:nvPr/>
        </p:nvSpPr>
        <p:spPr>
          <a:xfrm>
            <a:off x="-1746360" y="1773360"/>
            <a:ext cx="8496360" cy="30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r>
              <a:rPr b="1" lang="zh-CN" sz="66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三节  </a:t>
            </a:r>
            <a:endParaRPr b="0" lang="en-US" sz="6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ff"/>
                </a:solidFill>
                <a:latin typeface="华文新魏"/>
                <a:ea typeface="华文新魏"/>
              </a:rPr>
              <a:t>脑性瘫痪</a:t>
            </a:r>
            <a:r>
              <a:rPr b="0" lang="zh-CN" sz="6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br>
              <a:rPr sz="6600"/>
            </a:br>
            <a:endParaRPr b="0" lang="en-US" sz="6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矩形 1"/>
          <p:cNvSpPr/>
          <p:nvPr/>
        </p:nvSpPr>
        <p:spPr>
          <a:xfrm>
            <a:off x="808200" y="1197000"/>
            <a:ext cx="70578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华文楷体"/>
                <a:ea typeface="华文楷体"/>
              </a:rPr>
              <a:t>案例</a:t>
            </a:r>
            <a:r>
              <a:rPr b="1" lang="en-US" sz="2800" spc="-1" strike="noStrike">
                <a:solidFill>
                  <a:srgbClr val="c00000"/>
                </a:solidFill>
                <a:latin typeface="华文楷体"/>
                <a:ea typeface="华文楷体"/>
              </a:rPr>
              <a:t>6-3 A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楷体"/>
                <a:ea typeface="华文楷体"/>
              </a:rPr>
              <a:t>患儿，男，</a:t>
            </a:r>
            <a:r>
              <a:rPr b="1" lang="en-US" sz="2800" spc="-1" strike="noStrike">
                <a:solidFill>
                  <a:srgbClr val="046ca6"/>
                </a:solidFill>
                <a:latin typeface="华文楷体"/>
                <a:ea typeface="华文楷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华文楷体"/>
                <a:ea typeface="华文楷体"/>
              </a:rPr>
              <a:t>岁，</a:t>
            </a:r>
            <a:r>
              <a:rPr b="1" lang="en-US" sz="2800" spc="-1" strike="noStrike">
                <a:solidFill>
                  <a:srgbClr val="046ca6"/>
                </a:solidFill>
                <a:latin typeface="华文楷体"/>
                <a:ea typeface="华文楷体"/>
              </a:rPr>
              <a:t>32</a:t>
            </a:r>
            <a:r>
              <a:rPr b="1" lang="zh-CN" sz="2800" spc="-1" strike="noStrike">
                <a:solidFill>
                  <a:srgbClr val="046ca6"/>
                </a:solidFill>
                <a:latin typeface="华文楷体"/>
                <a:ea typeface="华文楷体"/>
              </a:rPr>
              <a:t>周出生，生后出现黄疸，持续</a:t>
            </a:r>
            <a:r>
              <a:rPr b="1" lang="en-US" sz="2800" spc="-1" strike="noStrike">
                <a:solidFill>
                  <a:srgbClr val="046ca6"/>
                </a:solidFill>
                <a:latin typeface="华文楷体"/>
                <a:ea typeface="华文楷体"/>
              </a:rPr>
              <a:t>17</a:t>
            </a:r>
            <a:r>
              <a:rPr b="1" lang="zh-CN" sz="2800" spc="-1" strike="noStrike">
                <a:solidFill>
                  <a:srgbClr val="046ca6"/>
                </a:solidFill>
                <a:latin typeface="华文楷体"/>
                <a:ea typeface="华文楷体"/>
              </a:rPr>
              <a:t>天。现运动发育落后，竖颈（</a:t>
            </a:r>
            <a:r>
              <a:rPr b="1" lang="en-US" sz="2800" spc="-1" strike="noStrike">
                <a:solidFill>
                  <a:srgbClr val="046ca6"/>
                </a:solidFill>
                <a:latin typeface="华文楷体"/>
                <a:ea typeface="华文楷体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华文楷体"/>
                <a:ea typeface="华文楷体"/>
              </a:rPr>
              <a:t>），翻身（</a:t>
            </a:r>
            <a:r>
              <a:rPr b="1" lang="en-US" sz="2800" spc="-1" strike="noStrike">
                <a:solidFill>
                  <a:srgbClr val="046ca6"/>
                </a:solidFill>
                <a:latin typeface="华文楷体"/>
                <a:ea typeface="华文楷体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华文楷体"/>
                <a:ea typeface="华文楷体"/>
              </a:rPr>
              <a:t>），角弓反张；原始反射残存非对称性颈紧张反射（</a:t>
            </a:r>
            <a:r>
              <a:rPr b="1" lang="en-US" sz="2800" spc="-1" strike="noStrike">
                <a:solidFill>
                  <a:srgbClr val="046ca6"/>
                </a:solidFill>
                <a:latin typeface="华文楷体"/>
                <a:ea typeface="华文楷体"/>
              </a:rPr>
              <a:t>+</a:t>
            </a:r>
            <a:r>
              <a:rPr b="1" lang="zh-CN" sz="2800" spc="-1" strike="noStrike">
                <a:solidFill>
                  <a:srgbClr val="046ca6"/>
                </a:solidFill>
                <a:latin typeface="华文楷体"/>
                <a:ea typeface="华文楷体"/>
              </a:rPr>
              <a:t>），侧弯反射（</a:t>
            </a:r>
            <a:r>
              <a:rPr b="1" lang="en-US" sz="2800" spc="-1" strike="noStrike">
                <a:solidFill>
                  <a:srgbClr val="046ca6"/>
                </a:solidFill>
                <a:latin typeface="华文楷体"/>
                <a:ea typeface="华文楷体"/>
              </a:rPr>
              <a:t>+</a:t>
            </a:r>
            <a:r>
              <a:rPr b="1" lang="zh-CN" sz="2800" spc="-1" strike="noStrike">
                <a:solidFill>
                  <a:srgbClr val="046ca6"/>
                </a:solidFill>
                <a:latin typeface="华文楷体"/>
                <a:ea typeface="华文楷体"/>
              </a:rPr>
              <a:t>）；流涎，吞咽及咀嚼困难，发音障碍；睡眠不佳，便秘。患儿自</a:t>
            </a:r>
            <a:r>
              <a:rPr b="1" lang="en-US" sz="2800" spc="-1" strike="noStrike">
                <a:solidFill>
                  <a:srgbClr val="046ca6"/>
                </a:solidFill>
                <a:latin typeface="华文楷体"/>
                <a:ea typeface="华文楷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华文楷体"/>
                <a:ea typeface="华文楷体"/>
              </a:rPr>
              <a:t>岁半开始出现癫痫发作，脑电图检查示：双侧对称同步尖慢波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华文楷体"/>
                <a:ea typeface="华文楷体"/>
              </a:rPr>
              <a:t>问题与思考</a:t>
            </a:r>
            <a:r>
              <a:rPr b="1" lang="zh-CN" sz="2800" spc="-1" strike="noStrike">
                <a:solidFill>
                  <a:srgbClr val="046ca6"/>
                </a:solidFill>
                <a:latin typeface="华文楷体"/>
                <a:ea typeface="华文楷体"/>
              </a:rPr>
              <a:t>：该患儿存在哪些功能障碍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5" name="Rectangle 5"/>
          <p:cNvSpPr/>
          <p:nvPr/>
        </p:nvSpPr>
        <p:spPr>
          <a:xfrm>
            <a:off x="571680" y="571680"/>
            <a:ext cx="6000480" cy="5918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二、主要功能障碍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71680" y="571680"/>
            <a:ext cx="6000480" cy="5918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二、主要功能障碍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97" name="Rectangle 3"/>
          <p:cNvSpPr/>
          <p:nvPr/>
        </p:nvSpPr>
        <p:spPr>
          <a:xfrm>
            <a:off x="826920" y="1700280"/>
            <a:ext cx="763272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447840">
              <a:lnSpc>
                <a:spcPct val="110000"/>
              </a:lnSpc>
              <a:spcBef>
                <a:spcPts val="799"/>
              </a:spcBef>
              <a:buClr>
                <a:srgbClr val="8ac8d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47840" indent="-447840">
              <a:lnSpc>
                <a:spcPct val="110000"/>
              </a:lnSpc>
              <a:spcBef>
                <a:spcPts val="799"/>
              </a:spcBef>
              <a:buClr>
                <a:srgbClr val="8ac8d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8" name="Rectangle 3"/>
          <p:cNvSpPr/>
          <p:nvPr/>
        </p:nvSpPr>
        <p:spPr>
          <a:xfrm>
            <a:off x="900000" y="2205000"/>
            <a:ext cx="74916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ts val="4598"/>
              </a:lnSpc>
              <a:spcBef>
                <a:spcPts val="901"/>
              </a:spcBef>
              <a:buClr>
                <a:srgbClr val="99669b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中枢性运动障碍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4598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46ca6"/>
                </a:solidFill>
                <a:latin typeface="华文新魏"/>
                <a:ea typeface="华文新魏"/>
              </a:rPr>
              <a:t>　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4598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4598"/>
              </a:lnSpc>
              <a:spcBef>
                <a:spcPts val="901"/>
              </a:spcBef>
              <a:buClr>
                <a:srgbClr val="99669b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伴随障碍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4598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9" name="AutoShape 6"/>
          <p:cNvSpPr/>
          <p:nvPr/>
        </p:nvSpPr>
        <p:spPr>
          <a:xfrm>
            <a:off x="4748040" y="1484280"/>
            <a:ext cx="4381560" cy="2651040"/>
          </a:xfrm>
          <a:prstGeom prst="wedgeRectCallout">
            <a:avLst>
              <a:gd name="adj1" fmla="val -55208"/>
              <a:gd name="adj2" fmla="val 171"/>
            </a:avLst>
          </a:prstGeom>
          <a:solidFill>
            <a:srgbClr val="cfeaf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9669b"/>
                </a:solidFill>
                <a:latin typeface="华文新魏"/>
                <a:ea typeface="华文新魏"/>
              </a:rPr>
              <a:t>痉挛型：</a:t>
            </a:r>
            <a:r>
              <a:rPr b="1" lang="zh-CN" sz="1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偏瘫、双瘫、四肢瘫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9669b"/>
                </a:solidFill>
                <a:latin typeface="华文新魏"/>
                <a:ea typeface="华文新魏"/>
              </a:rPr>
              <a:t>不随意运动型：</a:t>
            </a:r>
            <a:r>
              <a:rPr b="1" lang="zh-CN" sz="18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不自主无意识运动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9669b"/>
                </a:solidFill>
                <a:latin typeface="华文新魏"/>
                <a:ea typeface="华文新魏"/>
              </a:rPr>
              <a:t>共济失调型：</a:t>
            </a:r>
            <a:r>
              <a:rPr b="1" lang="zh-CN" sz="1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平衡障碍，肌张力低下，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9669b"/>
                </a:solidFill>
                <a:latin typeface="华文新魏"/>
                <a:ea typeface="华文新魏"/>
              </a:rPr>
              <a:t>强直型：</a:t>
            </a:r>
            <a:r>
              <a:rPr b="1" lang="zh-CN" sz="1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扭转痉挛或强直，常伴智力低下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9669b"/>
                </a:solidFill>
                <a:latin typeface="华文新魏"/>
                <a:ea typeface="华文新魏"/>
              </a:rPr>
              <a:t>肌张力低下型：</a:t>
            </a:r>
            <a:r>
              <a:rPr b="1" lang="zh-CN" sz="1800" spc="-1" strike="noStrike">
                <a:solidFill>
                  <a:srgbClr val="046ca6"/>
                </a:solidFill>
                <a:latin typeface="华文新魏"/>
                <a:ea typeface="华文新魏"/>
              </a:rPr>
              <a:t>肌张力低下为显著特征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9669b"/>
                </a:solidFill>
                <a:latin typeface="华文新魏"/>
                <a:ea typeface="华文新魏"/>
              </a:rPr>
              <a:t>混合型：</a:t>
            </a:r>
            <a:r>
              <a:rPr b="1" lang="zh-CN" sz="18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两种或两种症状同时存在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0" name="AutoShape 7"/>
          <p:cNvSpPr/>
          <p:nvPr/>
        </p:nvSpPr>
        <p:spPr>
          <a:xfrm>
            <a:off x="3924360" y="4365720"/>
            <a:ext cx="3240000" cy="1366920"/>
          </a:xfrm>
          <a:prstGeom prst="wedgeRectCallout">
            <a:avLst>
              <a:gd name="adj1" fmla="val -62087"/>
              <a:gd name="adj2" fmla="val -33245"/>
            </a:avLst>
          </a:prstGeom>
          <a:solidFill>
            <a:srgbClr val="cfeaf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华文新魏"/>
              </a:rPr>
              <a:t>语言、听觉、视觉、行为障碍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华文新魏"/>
              </a:rPr>
              <a:t>癫痫、智能、情绪问题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华文新魏"/>
              </a:rPr>
              <a:t>其他感觉和认知功能障碍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矩形 1"/>
          <p:cNvSpPr/>
          <p:nvPr/>
        </p:nvSpPr>
        <p:spPr>
          <a:xfrm>
            <a:off x="468360" y="1197000"/>
            <a:ext cx="8280360" cy="29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楷体"/>
                <a:ea typeface="楷体"/>
              </a:rPr>
              <a:t>知识链接</a:t>
            </a:r>
            <a:r>
              <a:rPr b="1" lang="en-US" sz="2800" spc="-1" strike="noStrike">
                <a:solidFill>
                  <a:srgbClr val="03517d"/>
                </a:solidFill>
                <a:latin typeface="楷体"/>
                <a:ea typeface="楷体"/>
              </a:rPr>
              <a:t>     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          </a:t>
            </a:r>
            <a:r>
              <a:rPr b="1" lang="zh-CN" sz="3600" spc="-1" strike="noStrike">
                <a:solidFill>
                  <a:srgbClr val="c00000"/>
                </a:solidFill>
                <a:latin typeface="楷体"/>
                <a:ea typeface="楷体"/>
              </a:rPr>
              <a:t>非对称性紧张性颈反射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    </a:t>
            </a:r>
            <a:r>
              <a:rPr b="1" lang="zh-CN" sz="2800" spc="-1" strike="noStrike">
                <a:solidFill>
                  <a:srgbClr val="692aa2"/>
                </a:solidFill>
                <a:latin typeface="楷体"/>
                <a:ea typeface="楷体"/>
              </a:rPr>
              <a:t>非对称性紧张性颈反射</a:t>
            </a:r>
            <a:r>
              <a:rPr b="1" lang="en-US" sz="2800" spc="-1" strike="noStrike">
                <a:solidFill>
                  <a:srgbClr val="692aa2"/>
                </a:solidFill>
                <a:latin typeface="楷体"/>
                <a:ea typeface="楷体"/>
              </a:rPr>
              <a:t>(asymmetrical tonic neck reflex, ATNR)</a:t>
            </a:r>
            <a:r>
              <a:rPr b="1" lang="zh-CN" sz="2800" spc="-1" strike="noStrike">
                <a:solidFill>
                  <a:srgbClr val="692aa2"/>
                </a:solidFill>
                <a:latin typeface="楷体"/>
                <a:ea typeface="楷体"/>
              </a:rPr>
              <a:t> </a:t>
            </a:r>
            <a:r>
              <a:rPr b="1" lang="zh-CN" sz="2800" spc="-1" strike="noStrike">
                <a:solidFill>
                  <a:srgbClr val="692aa2"/>
                </a:solidFill>
                <a:latin typeface="楷体"/>
                <a:ea typeface="楷体"/>
              </a:rPr>
              <a:t>：小儿仰卧，头居中，四肢伸展位，当旋转头部时，阳性表现为颜面侧上、下肢伸肌张力增高成伸展位，后头侧屈肌张力增强，上、下肢屈曲。正常</a:t>
            </a:r>
            <a:r>
              <a:rPr b="1" lang="en-US" sz="2800" spc="-1" strike="noStrike">
                <a:solidFill>
                  <a:srgbClr val="692aa2"/>
                </a:solidFill>
                <a:latin typeface="楷体"/>
                <a:ea typeface="楷体"/>
              </a:rPr>
              <a:t>3</a:t>
            </a:r>
            <a:r>
              <a:rPr b="1" lang="zh-CN" sz="2800" spc="-1" strike="noStrike">
                <a:solidFill>
                  <a:srgbClr val="692aa2"/>
                </a:solidFill>
                <a:latin typeface="楷体"/>
                <a:ea typeface="楷体"/>
              </a:rPr>
              <a:t>～</a:t>
            </a:r>
            <a:r>
              <a:rPr b="1" lang="en-US" sz="2800" spc="-1" strike="noStrike">
                <a:solidFill>
                  <a:srgbClr val="692aa2"/>
                </a:solidFill>
                <a:latin typeface="楷体"/>
                <a:ea typeface="楷体"/>
              </a:rPr>
              <a:t>4</a:t>
            </a:r>
            <a:r>
              <a:rPr b="1" lang="zh-CN" sz="2800" spc="-1" strike="noStrike">
                <a:solidFill>
                  <a:srgbClr val="692aa2"/>
                </a:solidFill>
                <a:latin typeface="楷体"/>
                <a:ea typeface="楷体"/>
              </a:rPr>
              <a:t>月消失，持续阳性阻碍小儿头和四肢运动发育。</a:t>
            </a:r>
            <a:r>
              <a:rPr b="1" lang="en-US" sz="2800" spc="-1" strike="noStrike">
                <a:solidFill>
                  <a:srgbClr val="692aa2"/>
                </a:solidFill>
                <a:latin typeface="楷体"/>
                <a:ea typeface="楷体"/>
              </a:rPr>
              <a:t>ATNR</a:t>
            </a:r>
            <a:r>
              <a:rPr b="1" lang="zh-CN" sz="2800" spc="-1" strike="noStrike">
                <a:solidFill>
                  <a:srgbClr val="692aa2"/>
                </a:solidFill>
                <a:latin typeface="楷体"/>
                <a:ea typeface="楷体"/>
              </a:rPr>
              <a:t>在新生儿出生后</a:t>
            </a:r>
            <a:r>
              <a:rPr b="1" lang="en-US" sz="2800" spc="-1" strike="noStrike">
                <a:solidFill>
                  <a:srgbClr val="692aa2"/>
                </a:solidFill>
                <a:latin typeface="楷体"/>
                <a:ea typeface="楷体"/>
              </a:rPr>
              <a:t>1</a:t>
            </a:r>
            <a:r>
              <a:rPr b="1" lang="zh-CN" sz="2800" spc="-1" strike="noStrike">
                <a:solidFill>
                  <a:srgbClr val="692aa2"/>
                </a:solidFill>
                <a:latin typeface="楷体"/>
                <a:ea typeface="楷体"/>
              </a:rPr>
              <a:t>周左右出现，</a:t>
            </a:r>
            <a:r>
              <a:rPr b="1" lang="en-US" sz="2800" spc="-1" strike="noStrike">
                <a:solidFill>
                  <a:srgbClr val="692aa2"/>
                </a:solidFill>
                <a:latin typeface="楷体"/>
                <a:ea typeface="楷体"/>
              </a:rPr>
              <a:t>2</a:t>
            </a:r>
            <a:r>
              <a:rPr b="1" lang="zh-CN" sz="2800" spc="-1" strike="noStrike">
                <a:solidFill>
                  <a:srgbClr val="692aa2"/>
                </a:solidFill>
                <a:latin typeface="楷体"/>
                <a:ea typeface="楷体"/>
              </a:rPr>
              <a:t>～</a:t>
            </a:r>
            <a:r>
              <a:rPr b="1" lang="en-US" sz="2800" spc="-1" strike="noStrike">
                <a:solidFill>
                  <a:srgbClr val="692aa2"/>
                </a:solidFill>
                <a:latin typeface="楷体"/>
                <a:ea typeface="楷体"/>
              </a:rPr>
              <a:t>3</a:t>
            </a:r>
            <a:r>
              <a:rPr b="1" lang="zh-CN" sz="2800" spc="-1" strike="noStrike">
                <a:solidFill>
                  <a:srgbClr val="692aa2"/>
                </a:solidFill>
                <a:latin typeface="楷体"/>
                <a:ea typeface="楷体"/>
              </a:rPr>
              <a:t>个月呈优势，以后受上位中枢的控制而逐渐消失，若生后</a:t>
            </a:r>
            <a:r>
              <a:rPr b="1" lang="en-US" sz="2800" spc="-1" strike="noStrike">
                <a:solidFill>
                  <a:srgbClr val="692aa2"/>
                </a:solidFill>
                <a:latin typeface="楷体"/>
                <a:ea typeface="楷体"/>
              </a:rPr>
              <a:t>3</a:t>
            </a:r>
            <a:r>
              <a:rPr b="1" lang="zh-CN" sz="2800" spc="-1" strike="noStrike">
                <a:solidFill>
                  <a:srgbClr val="692aa2"/>
                </a:solidFill>
                <a:latin typeface="楷体"/>
                <a:ea typeface="楷体"/>
              </a:rPr>
              <a:t>个月仍然持续存在则为异常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71320" y="571680"/>
            <a:ext cx="7024680" cy="5918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二、主要功能障碍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03" name="灯片编号占位符 5"/>
          <p:cNvSpPr/>
          <p:nvPr/>
        </p:nvSpPr>
        <p:spPr>
          <a:xfrm>
            <a:off x="6588000" y="638172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C16AB-3052-4A5A-BEE6-B066569E4E2D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4" name="Rectangle 3"/>
          <p:cNvSpPr/>
          <p:nvPr/>
        </p:nvSpPr>
        <p:spPr>
          <a:xfrm>
            <a:off x="826920" y="1700280"/>
            <a:ext cx="763272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447840">
              <a:lnSpc>
                <a:spcPct val="110000"/>
              </a:lnSpc>
              <a:spcBef>
                <a:spcPts val="799"/>
              </a:spcBef>
              <a:buClr>
                <a:srgbClr val="8ac8d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47840" indent="-447840">
              <a:lnSpc>
                <a:spcPct val="110000"/>
              </a:lnSpc>
              <a:spcBef>
                <a:spcPts val="799"/>
              </a:spcBef>
              <a:buClr>
                <a:srgbClr val="8ac8d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5" name="Rectangle 3"/>
          <p:cNvSpPr/>
          <p:nvPr/>
        </p:nvSpPr>
        <p:spPr>
          <a:xfrm>
            <a:off x="1116000" y="1628640"/>
            <a:ext cx="74916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ts val="4499"/>
              </a:lnSpc>
              <a:spcBef>
                <a:spcPts val="799"/>
              </a:spcBef>
              <a:buClr>
                <a:srgbClr val="99669b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痉挛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4499"/>
              </a:lnSpc>
              <a:spcBef>
                <a:spcPts val="799"/>
              </a:spcBef>
              <a:buClr>
                <a:srgbClr val="99669b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不随意运动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4499"/>
              </a:lnSpc>
              <a:spcBef>
                <a:spcPts val="799"/>
              </a:spcBef>
              <a:buClr>
                <a:srgbClr val="99669b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共济失调型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4499"/>
              </a:lnSpc>
              <a:spcBef>
                <a:spcPts val="799"/>
              </a:spcBef>
              <a:buClr>
                <a:srgbClr val="99669b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强直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4499"/>
              </a:lnSpc>
              <a:spcBef>
                <a:spcPts val="799"/>
              </a:spcBef>
              <a:buClr>
                <a:srgbClr val="99669b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肌张力低下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4499"/>
              </a:lnSpc>
              <a:spcBef>
                <a:spcPts val="799"/>
              </a:spcBef>
              <a:buClr>
                <a:srgbClr val="99669b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混合型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6" name="AutoShape 6"/>
          <p:cNvSpPr/>
          <p:nvPr/>
        </p:nvSpPr>
        <p:spPr>
          <a:xfrm>
            <a:off x="4159080" y="1136520"/>
            <a:ext cx="4896000" cy="1351080"/>
          </a:xfrm>
          <a:prstGeom prst="wedgeRectCallout">
            <a:avLst>
              <a:gd name="adj1" fmla="val -75064"/>
              <a:gd name="adj2" fmla="val 14097"/>
            </a:avLst>
          </a:prstGeom>
          <a:solidFill>
            <a:srgbClr val="ccf4f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华文新魏"/>
                <a:ea typeface="华文新魏"/>
              </a:rPr>
              <a:t>肌张力高、僵硬、强直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华文新魏"/>
                <a:ea typeface="华文新魏"/>
              </a:rPr>
              <a:t>仰卧位时，呈上肢屈曲、下肢伸展痉挛。患儿俯卧位时</a:t>
            </a:r>
            <a:r>
              <a:rPr b="1" lang="en-US" sz="1800" spc="-1" strike="noStrike">
                <a:solidFill>
                  <a:srgbClr val="046ca6"/>
                </a:solidFill>
                <a:latin typeface="华文新魏"/>
                <a:ea typeface="华文新魏"/>
              </a:rPr>
              <a:t>.</a:t>
            </a:r>
            <a:r>
              <a:rPr b="1" lang="zh-CN" sz="1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竖颈困难，四肢屈曲模式</a:t>
            </a:r>
            <a:r>
              <a:rPr b="0" lang="zh-CN" sz="16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7" name="AutoShape 7"/>
          <p:cNvSpPr/>
          <p:nvPr/>
        </p:nvSpPr>
        <p:spPr>
          <a:xfrm>
            <a:off x="4699080" y="2492280"/>
            <a:ext cx="3959280" cy="935280"/>
          </a:xfrm>
          <a:prstGeom prst="wedgeRectCallout">
            <a:avLst>
              <a:gd name="adj1" fmla="val -67041"/>
              <a:gd name="adj2" fmla="val -17740"/>
            </a:avLst>
          </a:prstGeom>
          <a:solidFill>
            <a:srgbClr val="d4c3f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3197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流涎、咀嚼吞咽困难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3197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非对称性紧张性颈反射姿势多见</a:t>
            </a:r>
            <a:r>
              <a:rPr b="0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8" name="AutoShape 8"/>
          <p:cNvSpPr/>
          <p:nvPr/>
        </p:nvSpPr>
        <p:spPr>
          <a:xfrm>
            <a:off x="5132520" y="3494160"/>
            <a:ext cx="3092400" cy="934920"/>
          </a:xfrm>
          <a:prstGeom prst="wedgeRectCallout">
            <a:avLst>
              <a:gd name="adj1" fmla="val -98518"/>
              <a:gd name="adj2" fmla="val -70254"/>
            </a:avLst>
          </a:prstGeom>
          <a:solidFill>
            <a:srgbClr val="f8c4f1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3197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无痉挛，病理反射阳性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3197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伴有眼球震颤、言语障碍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9" name="AutoShape 9"/>
          <p:cNvSpPr/>
          <p:nvPr/>
        </p:nvSpPr>
        <p:spPr>
          <a:xfrm>
            <a:off x="5167440" y="4462560"/>
            <a:ext cx="3887640" cy="1655640"/>
          </a:xfrm>
          <a:prstGeom prst="wedgeRectCallout">
            <a:avLst>
              <a:gd name="adj1" fmla="val -109495"/>
              <a:gd name="adj2" fmla="val -77625"/>
            </a:avLst>
          </a:prstGeom>
          <a:solidFill>
            <a:srgbClr val="f2e09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2798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全身肌张力增加，呈强直状，肢体僵直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2798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运动严重障碍，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2798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常伴有角弓反张，智力低下</a:t>
            </a:r>
            <a:r>
              <a:rPr b="0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0" name="AutoShape 10"/>
          <p:cNvSpPr/>
          <p:nvPr/>
        </p:nvSpPr>
        <p:spPr>
          <a:xfrm>
            <a:off x="3968640" y="6164280"/>
            <a:ext cx="2979720" cy="431640"/>
          </a:xfrm>
          <a:prstGeom prst="wedgeRectCallout">
            <a:avLst>
              <a:gd name="adj1" fmla="val -69958"/>
              <a:gd name="adj2" fmla="val -367435"/>
            </a:avLst>
          </a:prstGeom>
          <a:solidFill>
            <a:srgbClr val="d2feda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华文新魏"/>
              </a:rPr>
              <a:t>抬头无力，坐或站立困难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1" name="AutoShape 11"/>
          <p:cNvSpPr/>
          <p:nvPr/>
        </p:nvSpPr>
        <p:spPr>
          <a:xfrm>
            <a:off x="395280" y="6118200"/>
            <a:ext cx="3276720" cy="527040"/>
          </a:xfrm>
          <a:prstGeom prst="wedgeRectCallout">
            <a:avLst>
              <a:gd name="adj1" fmla="val 5263"/>
              <a:gd name="adj2" fmla="val -164875"/>
            </a:avLst>
          </a:prstGeom>
          <a:solidFill>
            <a:srgbClr val="fff8c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36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华文新魏"/>
              </a:rPr>
              <a:t>可能以一种类型的表现为主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    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71320" y="571680"/>
            <a:ext cx="7024680" cy="5918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二、主要功能障碍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13" name="灯片编号占位符 5"/>
          <p:cNvSpPr/>
          <p:nvPr/>
        </p:nvSpPr>
        <p:spPr>
          <a:xfrm>
            <a:off x="6588000" y="638172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387E7-0979-4691-B124-788838CDF444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4" name="Rectangle 3"/>
          <p:cNvSpPr/>
          <p:nvPr/>
        </p:nvSpPr>
        <p:spPr>
          <a:xfrm>
            <a:off x="826920" y="1700280"/>
            <a:ext cx="763272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447840">
              <a:lnSpc>
                <a:spcPct val="110000"/>
              </a:lnSpc>
              <a:spcBef>
                <a:spcPts val="799"/>
              </a:spcBef>
              <a:buClr>
                <a:srgbClr val="8ac8d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47840" indent="-447840">
              <a:lnSpc>
                <a:spcPct val="110000"/>
              </a:lnSpc>
              <a:spcBef>
                <a:spcPts val="799"/>
              </a:spcBef>
              <a:buClr>
                <a:srgbClr val="8ac8d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5" name="Rectangle 3"/>
          <p:cNvSpPr/>
          <p:nvPr/>
        </p:nvSpPr>
        <p:spPr>
          <a:xfrm>
            <a:off x="826920" y="1197000"/>
            <a:ext cx="74916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4499"/>
              </a:lnSpc>
              <a:spcBef>
                <a:spcPts val="751"/>
              </a:spcBef>
              <a:buClr>
                <a:srgbClr val="99669b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46ca6"/>
                </a:solidFill>
                <a:latin typeface="华文新魏"/>
                <a:ea typeface="华文新魏"/>
              </a:rPr>
              <a:t>语言障碍 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4499"/>
              </a:lnSpc>
              <a:spcBef>
                <a:spcPts val="751"/>
              </a:spcBef>
              <a:buClr>
                <a:srgbClr val="99669b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3366"/>
                </a:solidFill>
                <a:latin typeface="华文新魏"/>
                <a:ea typeface="华文新魏"/>
              </a:rPr>
              <a:t>视觉障碍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4499"/>
              </a:lnSpc>
              <a:spcBef>
                <a:spcPts val="751"/>
              </a:spcBef>
              <a:buClr>
                <a:srgbClr val="99669b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3366"/>
                </a:solidFill>
                <a:latin typeface="华文新魏"/>
                <a:ea typeface="华文新魏"/>
              </a:rPr>
              <a:t>智能障碍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4499"/>
              </a:lnSpc>
              <a:spcBef>
                <a:spcPts val="751"/>
              </a:spcBef>
              <a:buClr>
                <a:srgbClr val="99669b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46ca6"/>
                </a:solidFill>
                <a:latin typeface="华文新魏"/>
                <a:ea typeface="华文新魏"/>
              </a:rPr>
              <a:t>听觉障碍 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4499"/>
              </a:lnSpc>
              <a:spcBef>
                <a:spcPts val="751"/>
              </a:spcBef>
              <a:buClr>
                <a:srgbClr val="99669b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46ca6"/>
                </a:solidFill>
                <a:latin typeface="华文新魏"/>
                <a:ea typeface="华文新魏"/>
              </a:rPr>
              <a:t>行为障碍 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4499"/>
              </a:lnSpc>
              <a:spcBef>
                <a:spcPts val="751"/>
              </a:spcBef>
              <a:buClr>
                <a:srgbClr val="99669b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46ca6"/>
                </a:solidFill>
                <a:latin typeface="华文新魏"/>
                <a:ea typeface="华文新魏"/>
              </a:rPr>
              <a:t>癫痫 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6" name="AutoShape 6"/>
          <p:cNvSpPr/>
          <p:nvPr/>
        </p:nvSpPr>
        <p:spPr>
          <a:xfrm>
            <a:off x="3776760" y="1335240"/>
            <a:ext cx="4686120" cy="1055520"/>
          </a:xfrm>
          <a:prstGeom prst="wedgeRectCallout">
            <a:avLst>
              <a:gd name="adj1" fmla="val -67435"/>
              <a:gd name="adj2" fmla="val 36259"/>
            </a:avLst>
          </a:prstGeom>
          <a:solidFill>
            <a:srgbClr val="ccf4f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表现为语言发育迟缓，发音困难、构音不清，不能成句说话，不能正确表达，有的患儿完全失语。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7" name="AutoShape 7"/>
          <p:cNvSpPr/>
          <p:nvPr/>
        </p:nvSpPr>
        <p:spPr>
          <a:xfrm>
            <a:off x="3789360" y="2386080"/>
            <a:ext cx="4680000" cy="900000"/>
          </a:xfrm>
          <a:prstGeom prst="wedgeRectCallout">
            <a:avLst>
              <a:gd name="adj1" fmla="val -69740"/>
              <a:gd name="adj2" fmla="val -3115"/>
            </a:avLst>
          </a:prstGeom>
          <a:solidFill>
            <a:srgbClr val="d4c3f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366"/>
                </a:solidFill>
                <a:latin typeface="华文新魏"/>
                <a:ea typeface="华文新魏"/>
              </a:rPr>
              <a:t>内、外斜视，视神经萎缩，动眼神经麻痹，眼球震颤，</a:t>
            </a: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近视、远视 等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8" name="AutoShape 8"/>
          <p:cNvSpPr/>
          <p:nvPr/>
        </p:nvSpPr>
        <p:spPr>
          <a:xfrm>
            <a:off x="3780000" y="3308400"/>
            <a:ext cx="4679640" cy="647640"/>
          </a:xfrm>
          <a:prstGeom prst="wedgeRectCallout">
            <a:avLst>
              <a:gd name="adj1" fmla="val -69708"/>
              <a:gd name="adj2" fmla="val -15199"/>
            </a:avLst>
          </a:prstGeom>
          <a:solidFill>
            <a:srgbClr val="f8c4f1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3197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智能低下 ，多动、情绪不稳、自闭</a:t>
            </a:r>
            <a:r>
              <a:rPr b="0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9" name="AutoShape 9"/>
          <p:cNvSpPr/>
          <p:nvPr/>
        </p:nvSpPr>
        <p:spPr>
          <a:xfrm>
            <a:off x="3789360" y="3973680"/>
            <a:ext cx="4680000" cy="576000"/>
          </a:xfrm>
          <a:prstGeom prst="wedgeRectCallout">
            <a:avLst>
              <a:gd name="adj1" fmla="val -68490"/>
              <a:gd name="adj2" fmla="val -10879"/>
            </a:avLst>
          </a:prstGeom>
          <a:solidFill>
            <a:srgbClr val="f2e09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366"/>
                </a:solidFill>
                <a:latin typeface="Arial"/>
                <a:ea typeface="华文新魏"/>
              </a:rPr>
              <a:t>听力减退甚至丧失听力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0" name="AutoShape 10"/>
          <p:cNvSpPr/>
          <p:nvPr/>
        </p:nvSpPr>
        <p:spPr>
          <a:xfrm>
            <a:off x="3789360" y="4564080"/>
            <a:ext cx="4680000" cy="934920"/>
          </a:xfrm>
          <a:prstGeom prst="wedgeRectCallout">
            <a:avLst>
              <a:gd name="adj1" fmla="val -69231"/>
              <a:gd name="adj2" fmla="val -21476"/>
            </a:avLst>
          </a:prstGeom>
          <a:solidFill>
            <a:srgbClr val="d2feda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固执任性、情绪不稳定、注意力不集中有自残行为和暴力倾向 。 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1" name="AutoShape 11"/>
          <p:cNvSpPr/>
          <p:nvPr/>
        </p:nvSpPr>
        <p:spPr>
          <a:xfrm>
            <a:off x="3780000" y="5499000"/>
            <a:ext cx="4679640" cy="1081080"/>
          </a:xfrm>
          <a:prstGeom prst="wedgeRectCallout">
            <a:avLst>
              <a:gd name="adj1" fmla="val -85106"/>
              <a:gd name="adj2" fmla="val -54990"/>
            </a:avLst>
          </a:prstGeom>
          <a:solidFill>
            <a:srgbClr val="fff8c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36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华文新魏"/>
              </a:rPr>
              <a:t>全身性阵挛发作、部分发作、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36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华文新魏"/>
              </a:rPr>
              <a:t>继发性大发作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28760" y="714240"/>
            <a:ext cx="7997760" cy="66384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三、康复护理评估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042920" y="2060280"/>
            <a:ext cx="749160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健康状态评估 </a:t>
            </a: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躯体功能评估</a:t>
            </a: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言语功能评估 </a:t>
            </a: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感知、认知功能评估 </a:t>
            </a: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8" dur="500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3" dur="500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8" dur="500"/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3" dur="500"/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28760" y="714240"/>
            <a:ext cx="7997760" cy="66384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三、康复护理评估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49160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ADL</a:t>
            </a:r>
            <a:r>
              <a:rPr b="1" lang="zh-CN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评估</a:t>
            </a: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心理社会及家庭评估</a:t>
            </a: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智能评估    </a:t>
            </a: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6" dur="500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1" dur="500"/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6" dur="500"/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矩形 1"/>
          <p:cNvSpPr/>
          <p:nvPr/>
        </p:nvSpPr>
        <p:spPr>
          <a:xfrm>
            <a:off x="971640" y="1628640"/>
            <a:ext cx="7777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楷体"/>
                <a:ea typeface="楷体"/>
              </a:rPr>
              <a:t>案例</a:t>
            </a:r>
            <a:r>
              <a:rPr b="1" lang="en-US" sz="3200" spc="-1" strike="noStrike">
                <a:solidFill>
                  <a:srgbClr val="c00000"/>
                </a:solidFill>
                <a:latin typeface="楷体"/>
                <a:ea typeface="楷体"/>
              </a:rPr>
              <a:t>6-3 B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楷体"/>
                <a:ea typeface="楷体"/>
              </a:rPr>
              <a:t>    </a:t>
            </a:r>
            <a:r>
              <a:rPr b="1" lang="zh-CN" sz="3200" spc="-1" strike="noStrike">
                <a:solidFill>
                  <a:srgbClr val="046ca6"/>
                </a:solidFill>
                <a:latin typeface="楷体"/>
                <a:ea typeface="楷体"/>
              </a:rPr>
              <a:t>该患儿口语不流利，流涎，智力落后，能简单回答问题，右侧眼球斜视，吞咽有呛咳，四肢肌张力高，行走呈剪刀步态，足跟不能着地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楷体"/>
                <a:ea typeface="楷体"/>
              </a:rPr>
              <a:t>问题与思考</a:t>
            </a:r>
            <a:r>
              <a:rPr b="1" lang="zh-CN" sz="3200" spc="-1" strike="noStrike">
                <a:solidFill>
                  <a:srgbClr val="046ca6"/>
                </a:solidFill>
                <a:latin typeface="楷体"/>
                <a:ea typeface="楷体"/>
              </a:rPr>
              <a:t>：为该患儿制订康复护理计划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71320" y="785520"/>
            <a:ext cx="8321400" cy="6634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r>
              <a:rPr b="1" lang="en-US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—</a:t>
            </a: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原则及目标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28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1CF5C-49D7-49DD-9594-D051B89788AD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539280" y="2349000"/>
            <a:ext cx="8207640" cy="30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原则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ts val="4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       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早期干预，综合康复，正确指导，积极配合，持之以恒，预防继发残疾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71320" y="785520"/>
            <a:ext cx="8321400" cy="6634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r>
              <a:rPr b="1" lang="en-US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—</a:t>
            </a: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原则及目标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31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14C5A-495A-4326-B90E-D99DEE4A7B55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68360" y="1699920"/>
            <a:ext cx="8393040" cy="438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ts val="4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目标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15360" indent="0">
              <a:lnSpc>
                <a:spcPts val="4598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9b"/>
                </a:solidFill>
                <a:latin typeface="华文新魏"/>
                <a:ea typeface="华文新魏"/>
              </a:rPr>
              <a:t>  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  <a:ea typeface="华文新魏"/>
              </a:rPr>
              <a:t>短期：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①纠正异常姿势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15360" indent="0">
              <a:lnSpc>
                <a:spcPts val="4598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　　　　②指导正确抱姿与喂养姿势 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15360" indent="0">
              <a:lnSpc>
                <a:spcPts val="4598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　　　　③无跌伤造成二次损伤  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15360" indent="0">
              <a:lnSpc>
                <a:spcPts val="4598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  <a:ea typeface="华文新魏"/>
              </a:rPr>
              <a:t>长期：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①实现最佳功能和独立性；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15360" indent="0">
              <a:lnSpc>
                <a:spcPts val="4598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          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②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最大限度恢复身体、心理、社会等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         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15360" indent="0">
              <a:lnSpc>
                <a:spcPts val="4598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                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方面功能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3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3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3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3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BD8FC-3744-4171-A983-A62B4485EEF4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25520" y="118260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669b"/>
                </a:solidFill>
                <a:latin typeface="华文新魏"/>
                <a:ea typeface="华文新魏"/>
              </a:rPr>
              <a:t>主要内容</a:t>
            </a:r>
            <a:endParaRPr b="1" lang="en-US" sz="48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258560" y="1844280"/>
            <a:ext cx="703116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概述</a:t>
            </a: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主要功能障碍</a:t>
            </a: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康复护理评估</a:t>
            </a: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康复护理措施</a:t>
            </a: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康复护理指导</a:t>
            </a: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71320" y="713880"/>
            <a:ext cx="7529400" cy="5922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r>
              <a:rPr b="1" lang="en-US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—</a:t>
            </a: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护理方法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34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FB6E0-C4EB-4914-BDD6-918AF32D6348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042920" y="2133720"/>
            <a:ext cx="7027920" cy="371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ts val="4799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康复环境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 algn="just">
              <a:lnSpc>
                <a:spcPts val="4799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　宽敞、整洁、典雅、舒适、安全，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 algn="just">
              <a:lnSpc>
                <a:spcPts val="4799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　房间内设无障碍设施 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2"/>
          <p:cNvSpPr/>
          <p:nvPr/>
        </p:nvSpPr>
        <p:spPr>
          <a:xfrm>
            <a:off x="684360" y="1916280"/>
            <a:ext cx="7704000" cy="365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799"/>
              </a:spcBef>
              <a:buClr>
                <a:srgbClr val="99669b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纠正异常姿势，改善躯体活动障碍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●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正确睡眠体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　　痉挛型采用侧卧，利于降低肌张力，促进动作对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　　重者取俯卧位，胸前放一低枕，使其双臂向前伸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　　当头能向前抬起或能转动时，可去掉枕头取俯卧位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10920" y="620640"/>
            <a:ext cx="8001000" cy="720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r>
              <a:rPr b="1" lang="en-US" sz="4400" spc="-1" strike="noStrike">
                <a:solidFill>
                  <a:srgbClr val="002060"/>
                </a:solidFill>
                <a:latin typeface="Verdana"/>
                <a:ea typeface="华文新魏"/>
              </a:rPr>
              <a:t>—</a:t>
            </a: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护理方法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3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3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2"/>
          <p:cNvSpPr/>
          <p:nvPr/>
        </p:nvSpPr>
        <p:spPr>
          <a:xfrm>
            <a:off x="720720" y="1432080"/>
            <a:ext cx="7704000" cy="40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799"/>
              </a:spcBef>
              <a:buClr>
                <a:srgbClr val="99669b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纠正异常姿势，改善躯体活动障碍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●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正确的坐姿</a:t>
            </a:r>
            <a:r>
              <a:rPr b="0" lang="zh-CN" sz="1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　</a:t>
            </a:r>
            <a:r>
              <a:rPr b="1" lang="en-US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伸腿坐位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　　　　　　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　</a:t>
            </a:r>
            <a:r>
              <a:rPr b="1" lang="en-US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盘腿坐位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10920" y="620640"/>
            <a:ext cx="8001000" cy="720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r>
              <a:rPr b="1" lang="en-US" sz="4400" spc="-1" strike="noStrike">
                <a:solidFill>
                  <a:srgbClr val="002060"/>
                </a:solidFill>
                <a:latin typeface="Verdana"/>
                <a:ea typeface="华文新魏"/>
              </a:rPr>
              <a:t>—</a:t>
            </a: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护理方法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40" name="AutoShape 4"/>
          <p:cNvSpPr/>
          <p:nvPr/>
        </p:nvSpPr>
        <p:spPr>
          <a:xfrm>
            <a:off x="4194000" y="2143080"/>
            <a:ext cx="4321440" cy="2592360"/>
          </a:xfrm>
          <a:prstGeom prst="wedgeRectCallout">
            <a:avLst>
              <a:gd name="adj1" fmla="val -77810"/>
              <a:gd name="adj2" fmla="val 9092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1" name="AutoShape 5"/>
          <p:cNvSpPr/>
          <p:nvPr/>
        </p:nvSpPr>
        <p:spPr>
          <a:xfrm>
            <a:off x="4194000" y="4159080"/>
            <a:ext cx="4321440" cy="2521080"/>
          </a:xfrm>
          <a:prstGeom prst="wedgeRectCallout">
            <a:avLst>
              <a:gd name="adj1" fmla="val -78694"/>
              <a:gd name="adj2" fmla="val -4282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42" name="Picture 6" descr="图13-11-1 伸腿坐位"/>
          <p:cNvPicPr/>
          <p:nvPr/>
        </p:nvPicPr>
        <p:blipFill>
          <a:blip r:embed="rId1"/>
          <a:stretch/>
        </p:blipFill>
        <p:spPr>
          <a:xfrm>
            <a:off x="4267080" y="2214720"/>
            <a:ext cx="2105280" cy="223200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7" descr="图13-11-2伸腿坐位"/>
          <p:cNvPicPr/>
          <p:nvPr/>
        </p:nvPicPr>
        <p:blipFill>
          <a:blip r:embed="rId2"/>
          <a:stretch/>
        </p:blipFill>
        <p:spPr>
          <a:xfrm>
            <a:off x="6427800" y="2286000"/>
            <a:ext cx="2019240" cy="216072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8" descr="图13-12-1 盘坐位"/>
          <p:cNvPicPr/>
          <p:nvPr/>
        </p:nvPicPr>
        <p:blipFill>
          <a:blip r:embed="rId3"/>
          <a:stretch/>
        </p:blipFill>
        <p:spPr>
          <a:xfrm>
            <a:off x="4338720" y="4446720"/>
            <a:ext cx="2057400" cy="202860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9" descr="图13-12-2 盘坐位"/>
          <p:cNvPicPr/>
          <p:nvPr/>
        </p:nvPicPr>
        <p:blipFill>
          <a:blip r:embed="rId4"/>
          <a:stretch/>
        </p:blipFill>
        <p:spPr>
          <a:xfrm>
            <a:off x="6427800" y="4375080"/>
            <a:ext cx="194292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3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3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3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3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2"/>
          <p:cNvSpPr/>
          <p:nvPr/>
        </p:nvSpPr>
        <p:spPr>
          <a:xfrm>
            <a:off x="595440" y="1413000"/>
            <a:ext cx="7704000" cy="24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799"/>
              </a:spcBef>
              <a:buClr>
                <a:srgbClr val="99669b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纠正异常姿势，改善躯体活动障碍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●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正确的抱姿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　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10920" y="620640"/>
            <a:ext cx="8001000" cy="720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r>
              <a:rPr b="1" lang="en-US" sz="4400" spc="-1" strike="noStrike">
                <a:solidFill>
                  <a:srgbClr val="002060"/>
                </a:solidFill>
                <a:latin typeface="Verdana"/>
                <a:ea typeface="华文新魏"/>
              </a:rPr>
              <a:t>—</a:t>
            </a: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护理方法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grpSp>
        <p:nvGrpSpPr>
          <p:cNvPr id="348" name="组合 15"/>
          <p:cNvGrpSpPr/>
          <p:nvPr/>
        </p:nvGrpSpPr>
        <p:grpSpPr>
          <a:xfrm>
            <a:off x="3564000" y="2276640"/>
            <a:ext cx="5075280" cy="4349520"/>
            <a:chOff x="3564000" y="2276640"/>
            <a:chExt cx="5075280" cy="4349520"/>
          </a:xfrm>
        </p:grpSpPr>
        <p:sp>
          <p:nvSpPr>
            <p:cNvPr id="349" name="AutoShape 4"/>
            <p:cNvSpPr/>
            <p:nvPr/>
          </p:nvSpPr>
          <p:spPr>
            <a:xfrm>
              <a:off x="3564000" y="2276640"/>
              <a:ext cx="5075280" cy="4349520"/>
            </a:xfrm>
            <a:prstGeom prst="wedgeRectCallout">
              <a:avLst>
                <a:gd name="adj1" fmla="val -23046"/>
                <a:gd name="adj2" fmla="val 50467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46ca6"/>
                  </a:solidFill>
                  <a:latin typeface="Arial"/>
                  <a:ea typeface="华文新魏"/>
                </a:rPr>
                <a:t>痉挛型角弓反张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pic>
          <p:nvPicPr>
            <p:cNvPr id="350" name="Picture 5" descr="图13-23-1 痉挛型抱姿"/>
            <p:cNvPicPr/>
            <p:nvPr/>
          </p:nvPicPr>
          <p:blipFill>
            <a:blip r:embed="rId1"/>
            <a:stretch/>
          </p:blipFill>
          <p:spPr>
            <a:xfrm>
              <a:off x="4410360" y="2956680"/>
              <a:ext cx="3669480" cy="32713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1" name="组合 6"/>
          <p:cNvGrpSpPr/>
          <p:nvPr/>
        </p:nvGrpSpPr>
        <p:grpSpPr>
          <a:xfrm>
            <a:off x="4572000" y="2297160"/>
            <a:ext cx="3456000" cy="3705120"/>
            <a:chOff x="4572000" y="2297160"/>
            <a:chExt cx="3456000" cy="3705120"/>
          </a:xfrm>
        </p:grpSpPr>
        <p:sp>
          <p:nvSpPr>
            <p:cNvPr id="352" name="AutoShape 6"/>
            <p:cNvSpPr/>
            <p:nvPr/>
          </p:nvSpPr>
          <p:spPr>
            <a:xfrm>
              <a:off x="4572000" y="2297160"/>
              <a:ext cx="3456000" cy="3705120"/>
            </a:xfrm>
            <a:prstGeom prst="wedgeRectCallout">
              <a:avLst>
                <a:gd name="adj1" fmla="val -19986"/>
                <a:gd name="adj2" fmla="val -50129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46ca6"/>
                  </a:solidFill>
                  <a:latin typeface="Arial"/>
                  <a:ea typeface="华文新魏"/>
                </a:rPr>
                <a:t>　不随意运动型</a:t>
              </a:r>
              <a:r>
                <a:rPr b="0" lang="zh-CN" sz="1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pic>
          <p:nvPicPr>
            <p:cNvPr id="353" name="Picture 7" descr="图13-24-1 不随意运动型抱姿"/>
            <p:cNvPicPr/>
            <p:nvPr/>
          </p:nvPicPr>
          <p:blipFill>
            <a:blip r:embed="rId1"/>
            <a:stretch/>
          </p:blipFill>
          <p:spPr>
            <a:xfrm>
              <a:off x="5181480" y="2884320"/>
              <a:ext cx="2236680" cy="2530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4" name="AutoShape 12"/>
          <p:cNvSpPr/>
          <p:nvPr/>
        </p:nvSpPr>
        <p:spPr>
          <a:xfrm>
            <a:off x="684360" y="2205000"/>
            <a:ext cx="3348000" cy="3889440"/>
          </a:xfrm>
          <a:prstGeom prst="wedgeRectCallout">
            <a:avLst>
              <a:gd name="adj1" fmla="val 29685"/>
              <a:gd name="adj2" fmla="val -5005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华文新魏"/>
              </a:rPr>
              <a:t>不随意运动型及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华文新魏"/>
              </a:rPr>
              <a:t>肌张力低下型患儿抱法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55" name="Picture 13" descr="图13-24-2 不随意运动型抱姿"/>
          <p:cNvPicPr/>
          <p:nvPr/>
        </p:nvPicPr>
        <p:blipFill>
          <a:blip r:embed="rId2"/>
          <a:stretch/>
        </p:blipFill>
        <p:spPr>
          <a:xfrm>
            <a:off x="1225440" y="2903400"/>
            <a:ext cx="2430720" cy="2748240"/>
          </a:xfrm>
          <a:prstGeom prst="rect">
            <a:avLst/>
          </a:prstGeom>
          <a:ln w="0">
            <a:noFill/>
          </a:ln>
        </p:spPr>
      </p:pic>
      <p:sp>
        <p:nvSpPr>
          <p:cNvPr id="356" name="Rectangle 5"/>
          <p:cNvSpPr/>
          <p:nvPr/>
        </p:nvSpPr>
        <p:spPr>
          <a:xfrm>
            <a:off x="611280" y="620640"/>
            <a:ext cx="8001000" cy="720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r>
              <a:rPr b="1" lang="en-US" sz="4400" spc="-1" strike="noStrike">
                <a:solidFill>
                  <a:srgbClr val="002060"/>
                </a:solidFill>
                <a:latin typeface="Verdana"/>
                <a:ea typeface="华文新魏"/>
              </a:rPr>
              <a:t>—</a:t>
            </a: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护理方法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2"/>
          <p:cNvSpPr/>
          <p:nvPr/>
        </p:nvSpPr>
        <p:spPr>
          <a:xfrm>
            <a:off x="684360" y="1916280"/>
            <a:ext cx="7704000" cy="24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799"/>
              </a:spcBef>
              <a:buClr>
                <a:srgbClr val="99669b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纠正异常姿势，改善躯体活动障碍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●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正确的抱姿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　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10920" y="620640"/>
            <a:ext cx="8001000" cy="720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r>
              <a:rPr b="1" lang="en-US" sz="4400" spc="-1" strike="noStrike">
                <a:solidFill>
                  <a:srgbClr val="002060"/>
                </a:solidFill>
                <a:latin typeface="Verdana"/>
                <a:ea typeface="华文新魏"/>
              </a:rPr>
              <a:t>—</a:t>
            </a: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护理方法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grpSp>
        <p:nvGrpSpPr>
          <p:cNvPr id="359" name="组合 1"/>
          <p:cNvGrpSpPr/>
          <p:nvPr/>
        </p:nvGrpSpPr>
        <p:grpSpPr>
          <a:xfrm>
            <a:off x="522360" y="1773360"/>
            <a:ext cx="8028000" cy="4367160"/>
            <a:chOff x="522360" y="1773360"/>
            <a:chExt cx="8028000" cy="4367160"/>
          </a:xfrm>
        </p:grpSpPr>
        <p:sp>
          <p:nvSpPr>
            <p:cNvPr id="360" name="AutoShape 8"/>
            <p:cNvSpPr/>
            <p:nvPr/>
          </p:nvSpPr>
          <p:spPr>
            <a:xfrm>
              <a:off x="522360" y="1773360"/>
              <a:ext cx="8028000" cy="4367160"/>
            </a:xfrm>
            <a:prstGeom prst="wedgeRectCallout">
              <a:avLst>
                <a:gd name="adj1" fmla="val -24092"/>
                <a:gd name="adj2" fmla="val 46263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46ca6"/>
                  </a:solidFill>
                  <a:latin typeface="Arial"/>
                  <a:ea typeface="华文新魏"/>
                </a:rPr>
                <a:t>重度角弓反张患儿侧卧位抱起法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pic>
          <p:nvPicPr>
            <p:cNvPr id="361" name="Picture 9" descr="图13-29 重度角弓反张的特殊抱法"/>
            <p:cNvPicPr/>
            <p:nvPr/>
          </p:nvPicPr>
          <p:blipFill>
            <a:blip r:embed="rId1"/>
            <a:stretch/>
          </p:blipFill>
          <p:spPr>
            <a:xfrm>
              <a:off x="3052080" y="2781000"/>
              <a:ext cx="2514600" cy="3056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nodeType="clickEffect" fill="hold">
                      <p:stCondLst>
                        <p:cond delay="indefinite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10920" y="620640"/>
            <a:ext cx="8001000" cy="720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r>
              <a:rPr b="1" lang="en-US" sz="4400" spc="-1" strike="noStrike">
                <a:solidFill>
                  <a:srgbClr val="002060"/>
                </a:solidFill>
                <a:latin typeface="Verdana"/>
                <a:ea typeface="华文新魏"/>
              </a:rPr>
              <a:t>—</a:t>
            </a: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护理方法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grpSp>
        <p:nvGrpSpPr>
          <p:cNvPr id="363" name="组合 1"/>
          <p:cNvGrpSpPr/>
          <p:nvPr/>
        </p:nvGrpSpPr>
        <p:grpSpPr>
          <a:xfrm>
            <a:off x="2054160" y="2060640"/>
            <a:ext cx="5256360" cy="3960720"/>
            <a:chOff x="2054160" y="2060640"/>
            <a:chExt cx="5256360" cy="3960720"/>
          </a:xfrm>
        </p:grpSpPr>
        <p:sp>
          <p:nvSpPr>
            <p:cNvPr id="364" name="AutoShape 10"/>
            <p:cNvSpPr/>
            <p:nvPr/>
          </p:nvSpPr>
          <p:spPr>
            <a:xfrm>
              <a:off x="2054160" y="2060640"/>
              <a:ext cx="5256360" cy="3960720"/>
            </a:xfrm>
            <a:prstGeom prst="wedgeRectCallout">
              <a:avLst>
                <a:gd name="adj1" fmla="val -49643"/>
                <a:gd name="adj2" fmla="val -29564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46ca6"/>
                  </a:solidFill>
                  <a:latin typeface="Arial"/>
                  <a:ea typeface="华文新魏"/>
                </a:rPr>
                <a:t>屈曲占优势患儿抱法</a:t>
              </a:r>
              <a:r>
                <a:rPr b="0" lang="zh-CN" sz="1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pic>
          <p:nvPicPr>
            <p:cNvPr id="365" name="Picture 11" descr="图13-28 屈曲占优势的特殊抱法"/>
            <p:cNvPicPr/>
            <p:nvPr/>
          </p:nvPicPr>
          <p:blipFill>
            <a:blip r:embed="rId1"/>
            <a:stretch/>
          </p:blipFill>
          <p:spPr>
            <a:xfrm>
              <a:off x="3021120" y="2826720"/>
              <a:ext cx="3182040" cy="3194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2"/>
          <p:cNvSpPr/>
          <p:nvPr/>
        </p:nvSpPr>
        <p:spPr>
          <a:xfrm>
            <a:off x="684360" y="1916280"/>
            <a:ext cx="7704000" cy="433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799"/>
              </a:spcBef>
              <a:buClr>
                <a:srgbClr val="99669b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日常生活活动（</a:t>
            </a:r>
            <a:r>
              <a:rPr b="1" lang="en-US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ADL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能力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●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洗浴的护理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　　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华文新魏"/>
              </a:rPr>
              <a:t>洗浴时应注意不加重异常姿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华文新魏"/>
              </a:rPr>
              <a:t>　　体位舒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华文新魏"/>
              </a:rPr>
              <a:t>　　患儿有安全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10920" y="620640"/>
            <a:ext cx="8001000" cy="720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r>
              <a:rPr b="1" lang="en-US" sz="4400" spc="-1" strike="noStrike">
                <a:solidFill>
                  <a:srgbClr val="002060"/>
                </a:solidFill>
                <a:latin typeface="Verdana"/>
                <a:ea typeface="华文新魏"/>
              </a:rPr>
              <a:t>—</a:t>
            </a: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护理方法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nodeType="clickEffect" fill="hold">
                      <p:stCondLst>
                        <p:cond delay="indefinite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nodeType="clickEffect" fill="hold">
                      <p:stCondLst>
                        <p:cond delay="indefinite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nodeType="clickEffect" fill="hold">
                      <p:stCondLst>
                        <p:cond delay="indefinite"/>
                      </p:stCondLst>
                      <p:childTnLst>
                        <p:par>
                          <p:cTn id="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3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3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2"/>
          <p:cNvSpPr/>
          <p:nvPr/>
        </p:nvSpPr>
        <p:spPr>
          <a:xfrm>
            <a:off x="684360" y="1916280"/>
            <a:ext cx="7704000" cy="35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799"/>
              </a:spcBef>
              <a:buClr>
                <a:srgbClr val="99669b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日常生活活动（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ADL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能力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●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衣服穿脱的护理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　</a:t>
            </a: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套头衫或背心时，穿先患侧再健侧，脱健侧后患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　对襟衣服，先将其下面纽扣扣好，根据患儿的情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　留</a:t>
            </a:r>
            <a:r>
              <a:rPr b="1" lang="en-US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个上面的纽扣不扣，再按照套头衫脱穿方法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10920" y="620640"/>
            <a:ext cx="8001000" cy="720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r>
              <a:rPr b="1" lang="en-US" sz="4400" spc="-1" strike="noStrike">
                <a:solidFill>
                  <a:srgbClr val="002060"/>
                </a:solidFill>
                <a:latin typeface="Verdana"/>
                <a:ea typeface="华文新魏"/>
              </a:rPr>
              <a:t>—</a:t>
            </a: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护理方法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7" dur="indefinite" restart="never" nodeType="tmRoot">
          <p:childTnLst>
            <p:seq>
              <p:cTn id="638" dur="indefinite" nodeType="mainSeq">
                <p:childTnLst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nodeType="clickEffect" fill="hold">
                      <p:stCondLst>
                        <p:cond delay="indefinite"/>
                      </p:stCondLst>
                      <p:childTnLst>
                        <p:par>
                          <p:cTn id="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2"/>
          <p:cNvSpPr/>
          <p:nvPr/>
        </p:nvSpPr>
        <p:spPr>
          <a:xfrm>
            <a:off x="684360" y="2133720"/>
            <a:ext cx="7704000" cy="29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799"/>
              </a:spcBef>
              <a:buClr>
                <a:srgbClr val="99669b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日常生活活动（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ADL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能力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●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裤子穿脱的护理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　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取坐位，先患侧套入裤筒，再穿另一侧，然后躺下，边蹬健足，边向上提拉裤子到腰部并系好。脱与穿相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　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10920" y="620640"/>
            <a:ext cx="8001000" cy="720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r>
              <a:rPr b="1" lang="en-US" sz="4400" spc="-1" strike="noStrike">
                <a:solidFill>
                  <a:srgbClr val="002060"/>
                </a:solidFill>
                <a:latin typeface="Verdana"/>
                <a:ea typeface="华文新魏"/>
              </a:rPr>
              <a:t>—</a:t>
            </a: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护理方法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1" dur="indefinite" restart="never" nodeType="tmRoot">
          <p:childTnLst>
            <p:seq>
              <p:cTn id="652" dur="indefinite" nodeType="mainSeq">
                <p:childTnLst>
                  <p:par>
                    <p:cTn id="653" nodeType="clickEffect" fill="hold">
                      <p:stCondLst>
                        <p:cond delay="indefinite"/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nodeType="clickEffect" fill="hold">
                      <p:stCondLst>
                        <p:cond delay="indefinite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39640" y="105264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教学目标</a:t>
            </a:r>
            <a:endParaRPr b="1" lang="en-US" sz="40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4000" y="3716280"/>
            <a:ext cx="8459640" cy="300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6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楷体"/>
              </a:rPr>
              <a:t>识记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楷体"/>
              </a:rPr>
              <a:t>1</a:t>
            </a:r>
            <a:r>
              <a:rPr b="1" lang="zh-CN" sz="3200" spc="-1" strike="noStrike">
                <a:solidFill>
                  <a:srgbClr val="0070c0"/>
                </a:solidFill>
                <a:latin typeface="楷体"/>
              </a:rPr>
              <a:t>．陈述脑瘫概念、常见类型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楷体"/>
              </a:rPr>
              <a:t>2. </a:t>
            </a:r>
            <a:r>
              <a:rPr b="1" lang="zh-CN" sz="3200" spc="-1" strike="noStrike">
                <a:solidFill>
                  <a:srgbClr val="0070c0"/>
                </a:solidFill>
                <a:latin typeface="楷体"/>
              </a:rPr>
              <a:t>描述脑瘫的临床表现和主要功能障碍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楷体"/>
              </a:rPr>
              <a:t>理解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楷体"/>
              </a:rPr>
              <a:t>1. </a:t>
            </a:r>
            <a:r>
              <a:rPr b="1" lang="zh-CN" sz="3200" spc="-1" strike="noStrike">
                <a:solidFill>
                  <a:srgbClr val="0070c0"/>
                </a:solidFill>
                <a:latin typeface="楷体"/>
              </a:rPr>
              <a:t>解释脑瘫的致病因素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楷体"/>
              </a:rPr>
              <a:t>2. </a:t>
            </a:r>
            <a:r>
              <a:rPr b="1" lang="zh-CN" sz="3200" spc="-1" strike="noStrike">
                <a:solidFill>
                  <a:srgbClr val="0070c0"/>
                </a:solidFill>
                <a:latin typeface="楷体"/>
              </a:rPr>
              <a:t>归纳各型脑瘫的典型体征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楷体"/>
              </a:rPr>
              <a:t>运用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楷体"/>
              </a:rPr>
              <a:t>评估各型脑瘫患儿并为其制订康复护理计划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lnSpc>
                <a:spcPts val="58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50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407E5-B393-4034-A3CF-34E107AD6813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2"/>
          <p:cNvSpPr/>
          <p:nvPr/>
        </p:nvSpPr>
        <p:spPr>
          <a:xfrm>
            <a:off x="468360" y="1700280"/>
            <a:ext cx="8207280" cy="38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799"/>
              </a:spcBef>
              <a:buClr>
                <a:srgbClr val="99669b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日常生活活动（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ADL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能力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●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进食的护理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　　</a:t>
            </a: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①抱坐喂食；②面对面进食；③坐位进食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　④坐在固定椅子上进食；⑤侧卧位进食；⑥俯卧位进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　　喂饮时应注意，勺进入口腔的位置要低于患儿的口唇，从口唇的中央部位插入，喂食者避免从患儿头的上方或侧方喂饮，防止引起患儿的头部过度伸展和向一侧回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10920" y="620640"/>
            <a:ext cx="8001000" cy="720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r>
              <a:rPr b="1" lang="en-US" sz="4400" spc="-1" strike="noStrike">
                <a:solidFill>
                  <a:srgbClr val="002060"/>
                </a:solidFill>
                <a:latin typeface="Verdana"/>
                <a:ea typeface="华文新魏"/>
              </a:rPr>
              <a:t>—</a:t>
            </a: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护理方法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5" dur="indefinite" restart="never" nodeType="tmRoot">
          <p:childTnLst>
            <p:seq>
              <p:cTn id="666" dur="indefinite" nodeType="mainSeq">
                <p:childTnLst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nodeType="clickEffect" fill="hold">
                      <p:stCondLst>
                        <p:cond delay="indefinite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2"/>
          <p:cNvSpPr/>
          <p:nvPr/>
        </p:nvSpPr>
        <p:spPr>
          <a:xfrm>
            <a:off x="684360" y="1916280"/>
            <a:ext cx="7704000" cy="414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799"/>
              </a:spcBef>
              <a:buClr>
                <a:srgbClr val="99669b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日常生活活动（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ADL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能力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●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排泄的护理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　</a:t>
            </a: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培养定时排便的习惯　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　能座位排便的患儿应注意增加稳定性　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　注意座位的高度，双脚能踏到地面为宜。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10920" y="620640"/>
            <a:ext cx="8001000" cy="720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r>
              <a:rPr b="1" lang="en-US" sz="4400" spc="-1" strike="noStrike">
                <a:solidFill>
                  <a:srgbClr val="002060"/>
                </a:solidFill>
                <a:latin typeface="Verdana"/>
                <a:ea typeface="华文新魏"/>
              </a:rPr>
              <a:t>—</a:t>
            </a: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护理方法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9" dur="indefinite" restart="never" nodeType="tmRoot">
          <p:childTnLst>
            <p:seq>
              <p:cTn id="680" dur="indefinite" nodeType="mainSeq">
                <p:childTnLst>
                  <p:par>
                    <p:cTn id="681" nodeType="clickEffect" fill="hold">
                      <p:stCondLst>
                        <p:cond delay="indefinite"/>
                      </p:stCondLst>
                      <p:childTnLst>
                        <p:par>
                          <p:cTn id="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nodeType="clickEffect" fill="hold">
                      <p:stCondLst>
                        <p:cond delay="indefinite"/>
                      </p:stCondLst>
                      <p:childTnLst>
                        <p:par>
                          <p:cTn id="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/>
          </p:nvPr>
        </p:nvSpPr>
        <p:spPr>
          <a:xfrm>
            <a:off x="539280" y="1557000"/>
            <a:ext cx="8001000" cy="47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言语障碍的护理</a:t>
            </a: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华文新魏"/>
                <a:ea typeface="华文新魏"/>
              </a:rPr>
              <a:t>　　早期给予言语刺激及动作模仿</a:t>
            </a:r>
            <a:endParaRPr b="1" lang="en-US" sz="24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华文新魏"/>
                <a:ea typeface="华文新魏"/>
              </a:rPr>
              <a:t>　　强调早期干预并融入日常生活活动中 </a:t>
            </a:r>
            <a:endParaRPr b="1" lang="en-US" sz="24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加强心理护理增强社会交往能力</a:t>
            </a: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　　创造机会参与社会活动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　　增强社会交往能力 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title"/>
          </p:nvPr>
        </p:nvSpPr>
        <p:spPr>
          <a:xfrm>
            <a:off x="539280" y="620280"/>
            <a:ext cx="8001000" cy="68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r>
              <a:rPr b="1" lang="en-US" sz="4400" spc="-1" strike="noStrike">
                <a:solidFill>
                  <a:srgbClr val="002060"/>
                </a:solidFill>
                <a:latin typeface="Verdana"/>
                <a:ea typeface="华文新魏"/>
              </a:rPr>
              <a:t>—</a:t>
            </a: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护理方法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3" dur="indefinite" restart="never" nodeType="tmRoot">
          <p:childTnLst>
            <p:seq>
              <p:cTn id="694" dur="indefinite" nodeType="mainSeq">
                <p:childTnLst>
                  <p:par>
                    <p:cTn id="695" nodeType="clickEffect" fill="hold">
                      <p:stCondLst>
                        <p:cond delay="0"/>
                      </p:stCondLst>
                      <p:childTnLst>
                        <p:par>
                          <p:cTn id="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9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56760" y="500040"/>
            <a:ext cx="5426280" cy="7351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五、康复护理指导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79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F17F0-A5DE-4690-B726-ED0ED965330C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68000" y="1989000"/>
            <a:ext cx="7775640" cy="3888000"/>
          </a:xfrm>
          <a:prstGeom prst="rect">
            <a:avLst/>
          </a:prstGeom>
          <a:noFill/>
          <a:ln w="9360">
            <a:solidFill>
              <a:srgbClr val="ff0000"/>
            </a:solidFill>
            <a:prstDash val="lgDash"/>
            <a:miter/>
          </a:ln>
        </p:spPr>
        <p:txBody>
          <a:bodyPr anchor="t">
            <a:normAutofit/>
          </a:bodyPr>
          <a:p>
            <a:pPr marL="343080" indent="-343080">
              <a:lnSpc>
                <a:spcPts val="4799"/>
              </a:lnSpc>
              <a:spcBef>
                <a:spcPts val="700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介绍脑瘫致病因素、临床表现、预防措施 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ts val="4799"/>
              </a:lnSpc>
              <a:spcBef>
                <a:spcPts val="700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提倡早发现、早期综合干预 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ts val="4799"/>
              </a:lnSpc>
              <a:spcBef>
                <a:spcPts val="700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积极开展产前检查，防止感染性疾病发生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ts val="4799"/>
              </a:lnSpc>
              <a:spcBef>
                <a:spcPts val="700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避免早产、低体重儿和巨大儿出生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ts val="4799"/>
              </a:lnSpc>
              <a:spcBef>
                <a:spcPts val="700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指导正确进食姿势、正确抱姿、正确睡眠体位   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0" dur="indefinite" restart="never" nodeType="tmRoot">
          <p:childTnLst>
            <p:seq>
              <p:cTn id="701" dur="indefinite" nodeType="mainSeq">
                <p:childTnLst>
                  <p:par>
                    <p:cTn id="702" nodeType="clickEffect" fill="hold">
                      <p:stCondLst>
                        <p:cond delay="0"/>
                      </p:stCondLst>
                      <p:childTnLst>
                        <p:par>
                          <p:cTn id="7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6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2771640" y="259920"/>
            <a:ext cx="3500640" cy="87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华文新魏"/>
                <a:ea typeface="华文新魏"/>
              </a:rPr>
              <a:t>课程小结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82" name="灯片编号占位符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2D3EF-B551-4F3E-8348-EBE6EAF3F903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785520" y="1999800"/>
            <a:ext cx="7429320" cy="358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1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．脑瘫主要致病因素是脑缺氧或脑部血液灌注不足。胎儿宫内窘迫、早产儿、低出生体重儿、新生儿窒息、新生儿缺血缺氧性脑病等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2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．脑瘫所致的主要功能障碍有竖颈困难、流涎、咀嚼吞咽困难、平衡障碍、语言障碍、听觉障碍、视觉障碍、行为障碍、癫痫、感觉和认知障碍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>
              <a:lnSpc>
                <a:spcPts val="29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>
              <a:lnSpc>
                <a:spcPts val="29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矩形 1"/>
          <p:cNvSpPr/>
          <p:nvPr/>
        </p:nvSpPr>
        <p:spPr>
          <a:xfrm>
            <a:off x="900000" y="1484280"/>
            <a:ext cx="741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  <a:ea typeface="楷体"/>
              </a:rPr>
              <a:t>3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  <a:ea typeface="楷体"/>
              </a:rPr>
              <a:t>．康复护理评估包括健康状态、躯体功能、言语功能、感知及认知功能、日常生活活动能力、心理社会状况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  <a:ea typeface="楷体"/>
              </a:rPr>
              <a:t>4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  <a:ea typeface="楷体"/>
              </a:rPr>
              <a:t>．康复护理措施可根据脑瘫各型特点有针对性的进行异常姿势的矫正，防止关节强直挛缩发生；加强日常生活活动能力指导；早期语言刺激与干预；强化心理护理与自信心的培养，最大限度恢复心理、躯体功能，提高社会参与能力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矩形 1"/>
          <p:cNvSpPr/>
          <p:nvPr/>
        </p:nvSpPr>
        <p:spPr>
          <a:xfrm>
            <a:off x="900000" y="1916280"/>
            <a:ext cx="741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  <a:ea typeface="楷体"/>
              </a:rPr>
              <a:t>5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  <a:ea typeface="楷体"/>
              </a:rPr>
              <a:t>．康复护理指导包括介绍脑瘫致病因素、临床表现、治疗方法，预防措施；指导患儿家长如何控制脑瘫患儿的异常姿势、如何保持患儿正确进食姿势、指导家长对患儿的正确抱姿及正确的睡眠体位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ABFCB-8D3C-4239-BBA3-FE7642029086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/>
          </p:nvPr>
        </p:nvSpPr>
        <p:spPr>
          <a:xfrm>
            <a:off x="610920" y="1915920"/>
            <a:ext cx="810396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6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脑性瘫痪（</a:t>
            </a:r>
            <a:r>
              <a:rPr b="1" lang="en-US" sz="32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cerebral palsy, CP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简称脑瘫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ct val="16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定义：自受孕开始至婴儿期非进行性脑损伤和发育缺陷所导致的综合征，其主要表现为运动障碍及姿势异常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title"/>
          </p:nvPr>
        </p:nvSpPr>
        <p:spPr>
          <a:xfrm>
            <a:off x="2195280" y="836640"/>
            <a:ext cx="485748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2060"/>
                </a:solidFill>
                <a:latin typeface="华文新魏"/>
                <a:ea typeface="华文新魏"/>
              </a:rPr>
              <a:t>一、概 述</a:t>
            </a:r>
            <a:endParaRPr b="1" lang="en-US" sz="4000" spc="-1" strike="noStrike">
              <a:solidFill>
                <a:srgbClr val="00206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85A10-760C-4658-A3A6-F85A2860F7DF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395280" y="1988640"/>
            <a:ext cx="8569440" cy="39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世界范围内</a:t>
            </a: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1.5‰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～</a:t>
            </a: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4‰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，平均为</a:t>
            </a: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2‰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。 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2013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年脑瘫流行病学调查：黑龙江、北京、山西、山东、青海、陕西、河南、安徽、重庆、湖南、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　广西、广东共涉及</a:t>
            </a: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32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万名</a:t>
            </a: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0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～</a:t>
            </a: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6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岁儿童患病率：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　青海最高</a:t>
            </a: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5.4‰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 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　山东最低</a:t>
            </a: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1.09‰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，平均</a:t>
            </a: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2.71‰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，黑龙江省为</a:t>
            </a: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1.89‰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title"/>
          </p:nvPr>
        </p:nvSpPr>
        <p:spPr>
          <a:xfrm>
            <a:off x="642600" y="785880"/>
            <a:ext cx="601668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2060"/>
                </a:solidFill>
                <a:latin typeface="华文新魏"/>
                <a:ea typeface="华文新魏"/>
              </a:rPr>
              <a:t>一、概 述</a:t>
            </a:r>
            <a:r>
              <a:rPr b="1" lang="en-US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—</a:t>
            </a: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脑瘫发病率</a:t>
            </a:r>
            <a:endParaRPr b="1" lang="en-US" sz="3200" spc="-1" strike="noStrike">
              <a:solidFill>
                <a:srgbClr val="00206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CDD43-82E1-4AAE-86D4-0F98F44FD6C7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99680" y="571680"/>
            <a:ext cx="471492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一、概  述</a:t>
            </a:r>
            <a:r>
              <a:rPr b="1" lang="en-US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—</a:t>
            </a: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病因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59" name="Oval 4"/>
          <p:cNvSpPr/>
          <p:nvPr/>
        </p:nvSpPr>
        <p:spPr>
          <a:xfrm>
            <a:off x="3132000" y="1700280"/>
            <a:ext cx="2952720" cy="1008000"/>
          </a:xfrm>
          <a:prstGeom prst="ellipse">
            <a:avLst/>
          </a:prstGeom>
          <a:solidFill>
            <a:srgbClr val="ffffd5"/>
          </a:soli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华文新魏"/>
              </a:rPr>
              <a:t>脑缺氧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0" name="Oval 5"/>
          <p:cNvSpPr/>
          <p:nvPr/>
        </p:nvSpPr>
        <p:spPr>
          <a:xfrm>
            <a:off x="2987640" y="3141720"/>
            <a:ext cx="3240000" cy="1366920"/>
          </a:xfrm>
          <a:prstGeom prst="ellipse">
            <a:avLst/>
          </a:prstGeom>
          <a:solidFill>
            <a:srgbClr val="ffabe3"/>
          </a:solidFill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脑瘫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致病因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1" name="AutoShape 6"/>
          <p:cNvSpPr/>
          <p:nvPr/>
        </p:nvSpPr>
        <p:spPr>
          <a:xfrm>
            <a:off x="4500720" y="2708280"/>
            <a:ext cx="142560" cy="431640"/>
          </a:xfrm>
          <a:prstGeom prst="downArrow">
            <a:avLst>
              <a:gd name="adj1" fmla="val 50000"/>
              <a:gd name="adj2" fmla="val 7569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2" name="AutoShape 7"/>
          <p:cNvSpPr/>
          <p:nvPr/>
        </p:nvSpPr>
        <p:spPr>
          <a:xfrm>
            <a:off x="4572000" y="4508640"/>
            <a:ext cx="142920" cy="360360"/>
          </a:xfrm>
          <a:prstGeom prst="upArrow">
            <a:avLst>
              <a:gd name="adj1" fmla="val 50000"/>
              <a:gd name="adj2" fmla="val 63035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3" name="Oval 8"/>
          <p:cNvSpPr/>
          <p:nvPr/>
        </p:nvSpPr>
        <p:spPr>
          <a:xfrm>
            <a:off x="2484360" y="4941720"/>
            <a:ext cx="4319640" cy="1081080"/>
          </a:xfrm>
          <a:prstGeom prst="ellipse">
            <a:avLst/>
          </a:prstGeom>
          <a:solidFill>
            <a:srgbClr val="ffffd5"/>
          </a:soli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华文新魏"/>
              </a:rPr>
              <a:t>脑部血液灌注不足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13B49-FF5F-471A-898B-8C41AE295C5B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99680" y="571680"/>
            <a:ext cx="471492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一、概  述</a:t>
            </a:r>
            <a:r>
              <a:rPr b="1" lang="en-US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—</a:t>
            </a: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病因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66" name="Oval 4"/>
          <p:cNvSpPr/>
          <p:nvPr/>
        </p:nvSpPr>
        <p:spPr>
          <a:xfrm>
            <a:off x="3276720" y="1557360"/>
            <a:ext cx="2952720" cy="1008000"/>
          </a:xfrm>
          <a:prstGeom prst="ellipse">
            <a:avLst/>
          </a:prstGeom>
          <a:solidFill>
            <a:srgbClr val="e5ffff"/>
          </a:soli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胎儿发育迟缓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7" name="Oval 5"/>
          <p:cNvSpPr/>
          <p:nvPr/>
        </p:nvSpPr>
        <p:spPr>
          <a:xfrm>
            <a:off x="3276720" y="3141720"/>
            <a:ext cx="2663640" cy="1584360"/>
          </a:xfrm>
          <a:prstGeom prst="ellipse">
            <a:avLst/>
          </a:prstGeom>
          <a:solidFill>
            <a:srgbClr val="ffddff"/>
          </a:solidFill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华文新魏"/>
              </a:rPr>
              <a:t>脑瘫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华文新魏"/>
              </a:rPr>
              <a:t>主要因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" name="Oval 6"/>
          <p:cNvSpPr/>
          <p:nvPr/>
        </p:nvSpPr>
        <p:spPr>
          <a:xfrm>
            <a:off x="1187280" y="5084640"/>
            <a:ext cx="3456000" cy="1079640"/>
          </a:xfrm>
          <a:prstGeom prst="ellipse">
            <a:avLst/>
          </a:prstGeom>
          <a:solidFill>
            <a:srgbClr val="e5ffff"/>
          </a:soli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低血糖和高胆红素血症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9" name="Oval 7"/>
          <p:cNvSpPr/>
          <p:nvPr/>
        </p:nvSpPr>
        <p:spPr>
          <a:xfrm>
            <a:off x="468360" y="3789360"/>
            <a:ext cx="2303280" cy="1008000"/>
          </a:xfrm>
          <a:prstGeom prst="ellipse">
            <a:avLst/>
          </a:prstGeom>
          <a:solidFill>
            <a:srgbClr val="e5ffff"/>
          </a:soli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早产儿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0" name="Oval 8"/>
          <p:cNvSpPr/>
          <p:nvPr/>
        </p:nvSpPr>
        <p:spPr>
          <a:xfrm>
            <a:off x="6516720" y="3645000"/>
            <a:ext cx="2411280" cy="1079280"/>
          </a:xfrm>
          <a:prstGeom prst="ellipse">
            <a:avLst/>
          </a:prstGeom>
          <a:solidFill>
            <a:srgbClr val="e5ffff"/>
          </a:soli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新生儿窒息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1" name="Oval 9"/>
          <p:cNvSpPr/>
          <p:nvPr/>
        </p:nvSpPr>
        <p:spPr>
          <a:xfrm>
            <a:off x="684360" y="2276640"/>
            <a:ext cx="2592360" cy="1008000"/>
          </a:xfrm>
          <a:prstGeom prst="ellipse">
            <a:avLst/>
          </a:prstGeom>
          <a:solidFill>
            <a:srgbClr val="e5ffff"/>
          </a:soli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胎儿宫内窘迫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2" name="Oval 10"/>
          <p:cNvSpPr/>
          <p:nvPr/>
        </p:nvSpPr>
        <p:spPr>
          <a:xfrm>
            <a:off x="5867280" y="2205000"/>
            <a:ext cx="2952720" cy="1008000"/>
          </a:xfrm>
          <a:prstGeom prst="ellipse">
            <a:avLst/>
          </a:prstGeom>
          <a:solidFill>
            <a:srgbClr val="e5ffff"/>
          </a:soli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低出生体重儿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3" name="Oval 11"/>
          <p:cNvSpPr/>
          <p:nvPr/>
        </p:nvSpPr>
        <p:spPr>
          <a:xfrm>
            <a:off x="4859280" y="5157720"/>
            <a:ext cx="3529080" cy="1008000"/>
          </a:xfrm>
          <a:prstGeom prst="ellipse">
            <a:avLst/>
          </a:prstGeom>
          <a:solidFill>
            <a:srgbClr val="e5ffff"/>
          </a:soli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新生儿缺血缺氧性脑病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4" name="Line 12"/>
          <p:cNvSpPr/>
          <p:nvPr/>
        </p:nvSpPr>
        <p:spPr>
          <a:xfrm flipV="1">
            <a:off x="2771640" y="4076640"/>
            <a:ext cx="505080" cy="21600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5" name="Line 13"/>
          <p:cNvSpPr/>
          <p:nvPr/>
        </p:nvSpPr>
        <p:spPr>
          <a:xfrm>
            <a:off x="3203640" y="2997360"/>
            <a:ext cx="431640" cy="36036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6" name="Line 14"/>
          <p:cNvSpPr/>
          <p:nvPr/>
        </p:nvSpPr>
        <p:spPr>
          <a:xfrm>
            <a:off x="4643280" y="2565360"/>
            <a:ext cx="0" cy="57636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7" name="Line 15"/>
          <p:cNvSpPr/>
          <p:nvPr/>
        </p:nvSpPr>
        <p:spPr>
          <a:xfrm flipV="1">
            <a:off x="3780000" y="4724280"/>
            <a:ext cx="287280" cy="43344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8" name="Line 16"/>
          <p:cNvSpPr/>
          <p:nvPr/>
        </p:nvSpPr>
        <p:spPr>
          <a:xfrm flipH="1" flipV="1">
            <a:off x="5940000" y="4005000"/>
            <a:ext cx="576360" cy="14436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9" name="Line 17"/>
          <p:cNvSpPr/>
          <p:nvPr/>
        </p:nvSpPr>
        <p:spPr>
          <a:xfrm flipH="1" flipV="1">
            <a:off x="5219640" y="4652640"/>
            <a:ext cx="432000" cy="57636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0" name="Line 18"/>
          <p:cNvSpPr/>
          <p:nvPr/>
        </p:nvSpPr>
        <p:spPr>
          <a:xfrm flipH="1">
            <a:off x="5724000" y="2997360"/>
            <a:ext cx="360360" cy="43164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D6F95-C40F-41F0-970A-1B2807308ED9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33000" y="549360"/>
            <a:ext cx="746748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一、概  述</a:t>
            </a:r>
            <a:r>
              <a:rPr b="1" lang="en-US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—</a:t>
            </a: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临床表现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83" name="Rectangle 4"/>
          <p:cNvSpPr/>
          <p:nvPr/>
        </p:nvSpPr>
        <p:spPr>
          <a:xfrm>
            <a:off x="250920" y="2997360"/>
            <a:ext cx="2089080" cy="863280"/>
          </a:xfrm>
          <a:prstGeom prst="rect">
            <a:avLst/>
          </a:prstGeom>
          <a:solidFill>
            <a:srgbClr val="ffe1ff"/>
          </a:solidFill>
          <a:ln w="28440">
            <a:solidFill>
              <a:srgbClr val="9966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4" name="Rectangle 5"/>
          <p:cNvSpPr/>
          <p:nvPr/>
        </p:nvSpPr>
        <p:spPr>
          <a:xfrm>
            <a:off x="2843280" y="2276640"/>
            <a:ext cx="2448000" cy="1081080"/>
          </a:xfrm>
          <a:prstGeom prst="rect">
            <a:avLst/>
          </a:prstGeom>
          <a:solidFill>
            <a:srgbClr val="cc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Arial"/>
                <a:ea typeface="华文新魏"/>
              </a:rPr>
              <a:t>中枢运动功能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5" name="Rectangle 6"/>
          <p:cNvSpPr/>
          <p:nvPr/>
        </p:nvSpPr>
        <p:spPr>
          <a:xfrm>
            <a:off x="2987640" y="4076640"/>
            <a:ext cx="2016000" cy="936720"/>
          </a:xfrm>
          <a:prstGeom prst="rect">
            <a:avLst/>
          </a:prstGeom>
          <a:solidFill>
            <a:srgbClr val="cc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Arial"/>
                <a:ea typeface="华文新魏"/>
              </a:rPr>
              <a:t>姿势异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6" name="AutoShape 7"/>
          <p:cNvSpPr/>
          <p:nvPr/>
        </p:nvSpPr>
        <p:spPr>
          <a:xfrm>
            <a:off x="2384280" y="2637000"/>
            <a:ext cx="316080" cy="2087280"/>
          </a:xfrm>
          <a:custGeom>
            <a:avLst/>
            <a:gdLst>
              <a:gd name="textAreaLeft" fmla="*/ 201960 w 316080"/>
              <a:gd name="textAreaRight" fmla="*/ 316440 w 316080"/>
              <a:gd name="textAreaTop" fmla="*/ 54360 h 2087280"/>
              <a:gd name="textAreaBottom" fmla="*/ 2032920 h 2087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7154"/>
                </a:lnTo>
                <a:cubicBezTo>
                  <a:pt x="10800" y="8054"/>
                  <a:pt x="5400" y="8954"/>
                  <a:pt x="0" y="8954"/>
                </a:cubicBezTo>
                <a:cubicBezTo>
                  <a:pt x="5400" y="8954"/>
                  <a:pt x="10800" y="9854"/>
                  <a:pt x="10800" y="10754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7" name="Rectangle 8"/>
          <p:cNvSpPr/>
          <p:nvPr/>
        </p:nvSpPr>
        <p:spPr>
          <a:xfrm>
            <a:off x="5867280" y="1844640"/>
            <a:ext cx="2448000" cy="4176720"/>
          </a:xfrm>
          <a:prstGeom prst="rect">
            <a:avLst/>
          </a:prstGeom>
          <a:solidFill>
            <a:srgbClr val="ffffeb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可伴有不同程度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智力障碍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言语障碍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视听觉障碍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感知觉障碍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癫痫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心理行为异常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8" name="AutoShape 9"/>
          <p:cNvSpPr/>
          <p:nvPr/>
        </p:nvSpPr>
        <p:spPr>
          <a:xfrm>
            <a:off x="5435640" y="2565360"/>
            <a:ext cx="288720" cy="2448000"/>
          </a:xfrm>
          <a:custGeom>
            <a:avLst/>
            <a:gdLst>
              <a:gd name="textAreaLeft" fmla="*/ 0 w 288720"/>
              <a:gd name="textAreaRight" fmla="*/ 104040 w 288720"/>
              <a:gd name="textAreaTop" fmla="*/ 63720 h 2448000"/>
              <a:gd name="textAreaBottom" fmla="*/ 2384280 h 24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484CA-0523-47AD-BC08-1C98DF4504D2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68000" y="620640"/>
            <a:ext cx="7559640" cy="720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一、概  述</a:t>
            </a:r>
            <a:r>
              <a:rPr b="1" lang="en-US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—</a:t>
            </a: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临床表现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91" name="Rectangle 4"/>
          <p:cNvSpPr/>
          <p:nvPr/>
        </p:nvSpPr>
        <p:spPr>
          <a:xfrm>
            <a:off x="1187280" y="2924280"/>
            <a:ext cx="2089440" cy="1008000"/>
          </a:xfrm>
          <a:prstGeom prst="rect">
            <a:avLst/>
          </a:prstGeom>
          <a:solidFill>
            <a:srgbClr val="ffe5ff"/>
          </a:solidFill>
          <a:ln w="28440">
            <a:solidFill>
              <a:srgbClr val="9966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临床分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2" name="Rectangle 5"/>
          <p:cNvSpPr/>
          <p:nvPr/>
        </p:nvSpPr>
        <p:spPr>
          <a:xfrm>
            <a:off x="4427640" y="2133720"/>
            <a:ext cx="3600360" cy="3816360"/>
          </a:xfrm>
          <a:prstGeom prst="rect">
            <a:avLst/>
          </a:prstGeom>
          <a:solidFill>
            <a:srgbClr val="e1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①</a:t>
            </a: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痉挛型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②</a:t>
            </a: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不随意运动型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③</a:t>
            </a: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强直型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④</a:t>
            </a: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共济失调型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⑤</a:t>
            </a: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肌张力低下型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⑥</a:t>
            </a: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混合型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3" name="AutoShape 6"/>
          <p:cNvSpPr/>
          <p:nvPr/>
        </p:nvSpPr>
        <p:spPr>
          <a:xfrm>
            <a:off x="3492360" y="3357720"/>
            <a:ext cx="792360" cy="215640"/>
          </a:xfrm>
          <a:prstGeom prst="rightArrow">
            <a:avLst>
              <a:gd name="adj1" fmla="val 50000"/>
              <a:gd name="adj2" fmla="val 91861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赵欣</cp:lastModifiedBy>
  <dcterms:modified xsi:type="dcterms:W3CDTF">2015-12-15T09:16:56Z</dcterms:modified>
  <cp:revision>8</cp:revision>
  <dc:subject/>
  <dc:title>第一章 儿科疾病的护理</dc:title>
</cp:coreProperties>
</file>